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972-E390-4C33-8034-550C9F2D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62F-AC28-4BE7-9D74-DD18AB25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2185D-9C21-4373-B848-53C1DF0D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FA605-55EC-4431-8E66-0555692F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39821-985B-4100-86BE-78AE37B3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A5F3E-9D5F-48BB-811E-0A7FACF1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A5975-2FC1-40C0-91E2-E540A1B5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1A401-C244-43D7-9CF1-8BB29F8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46605-3FDA-4EA8-8347-D48EECA5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38485-A3F4-47DD-A7A5-7DE3569E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98764-428B-49D2-8A61-3CAAF1C1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A5AFA-53CD-4E5E-879F-D08D9CB5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23C-9C76-40DA-961F-C46C6592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AD722-5EC3-44A2-B773-C371ECBC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4B472-0285-41EF-B342-15656B56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5493F-071B-403D-AA77-91039916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16001-BF3E-4C3B-84FD-C72C349C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AFE28-522C-4A0D-A384-7C97BAA0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72E4C-5FA8-4361-94AC-2C06ACBB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C4CFA-AE5A-41C0-9E38-B39AA902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8B29E-6D78-4799-A71B-A07A0E2C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323C3-92E2-49E6-AAE6-7C9400C0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8CE2E-7459-4B7B-BD5D-7D56D728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C60-DEE9-4630-96DD-3E3EA3CF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9F386-9CA9-4457-9C60-9DABAE7E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ADFF3-EE2A-4BAB-ACA1-47F2D5D4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898A9-CA30-4E2C-A844-1C7A711E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57C0-6D85-41CC-91D3-18B2AF6D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93789-4DC1-4595-AFF6-7BADE983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CB901-3F1A-415D-BDAC-CA2C72B8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30320-7B04-46E5-A2B5-EA04D9B8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31CAD-B59B-49F1-AC7B-74CF540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B64DD-16C3-4479-B5C9-90EB896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C409F-92A4-48C9-AA1D-7632C058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069D-ABA2-41EA-A4B9-F724D551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56BFB-1589-4FD1-AB9A-EB26D6F4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E92A8-0D99-4FE7-A3D1-FD6354E5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D0B00-8A8D-46A1-B8ED-5A542579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1188E-DD0F-4B6C-9E22-247436A4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A9AAF-CB25-4607-B679-C352C53E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CA87D-4015-4A0E-92F3-8147B780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BB267-662C-440A-8D21-7F4F890A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DCEB8-0180-4DBD-9A3D-D11F24D6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1DDCB-0C6F-4DF7-8F51-E8F43B64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4CE17-B0A7-4C3F-85C9-31F658EF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D75F-48D7-42C0-8277-C149FCBB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B5996-9105-4B6A-A515-1F81A39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61B9A-DDDC-4955-93CF-F0EF95F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0C3B4-CC57-4844-906B-8F164AEE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4D78D-3FFF-48AF-AAF0-528A49C8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AC497-15B8-401E-AA2D-DDFF2C0C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EEA69-9E54-42BD-A978-C690DF09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229CD-3A07-4627-A4B7-5C0ACC07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04178-F02E-4B76-A5A4-4C467BF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42F61-4CA2-4437-A070-FAF189B8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7DF05-FC9F-4BB0-893E-30F1B0D3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B404-0726-4B10-8468-D57E02DE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815D6-6574-423C-8576-F11E23B4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0E91D-0D05-4AF9-BEDD-1FE6147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43697-3C5D-492D-8C3D-C893E3C0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AD513-10BA-40D4-89F9-6CC47A7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8E5ED-19E7-4CCC-93B2-6EFEB2EB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7F700-DD57-4921-9A3D-0A2F2227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E31A8-8896-4796-AB27-1C6D636B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B1CB8-0766-47F1-89FD-6C302280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D0DC8-A8CD-4ED1-AE25-F65A710D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4B275-43E2-4461-B807-1184B0F5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80F1-927A-4679-A9FD-A5F725E8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580C7-14A3-495A-902D-F9E1DAEC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717F2-CC18-4C56-B2B0-C4D29DA7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297AE-480A-43C4-8B9A-7B8D42B6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1E4D3-375E-4678-AC94-EB98B620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AEA35-6038-4E3C-B496-BD5FE72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CFFB2-1B90-46E9-839F-615BA849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94951-BDD1-4CB7-B648-E4DE9C8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8BB3E-E775-4DBA-88B6-681C5EA5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D5088-728D-4C72-9840-3CABF313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39682-73AA-4B72-813A-F01FB8C7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6088-A541-4D8E-B29F-FB2663E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51B8F-FCE0-4FB3-B17E-DC73BBC6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3393C-A543-4D02-9477-E3F6FB34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0280F-B375-467E-AE24-77E0C6FB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2D8E7-DDB8-4B0D-9AC9-02F32F01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84CAC-B806-47DB-8068-583F967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3A701-43D8-4DED-BC4C-E7B2BB48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E1437-B97F-44B5-8A26-CF1DCD1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4C84B-0A17-4E0A-8642-4E71D86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E5B9D-5DEC-4BE2-8FF8-354C30B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C2853-1C64-4CBA-BC17-E385A790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F558-144D-4954-B42E-728FDA77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94855-5821-45A4-9593-32DA128F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57C61-3BF1-4CAE-9A78-93627803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23F21-FE9F-452C-AC10-3A0BD3B7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9C06A-AAB0-4106-97A7-6D3832F1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F4DFB-B0B1-4528-A1A3-323EAD6F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8B94D-1F78-4930-9FFD-97A2D16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A8F56-BDFC-436A-964E-EECB4BE1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95526-20C2-4251-9EEE-08B15C3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18890-E9EC-4E15-8625-86204A6D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D9FCE-A7DA-410C-AE26-A76AAD2D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65EB-2455-4673-A9F6-713801A7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1875FD-2446-46B8-B13D-E97D3A44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9BA92-9DD7-41CF-8F15-9EE98781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365FD-6B27-45B9-AFB5-6607B8AD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EA00C-E0DB-46C0-AE9E-38F8FBA8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EB698-C5B8-459F-BCFB-18CBF7A7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45B07-1467-4D61-ADC5-C9351B49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5A866-466B-47F1-A173-1C6A6A34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112D9-CBB5-41A7-8B38-A78ED55C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5459B-F28F-4C1F-94A6-1CDE9E6D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E181F-56E3-4BF2-A7D8-FEA2A514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22D-177D-460D-B57D-0318526B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ED29-619F-4BBB-B6FE-7F24815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C0DB6-577F-4279-BEF8-213E546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0BC6C4-CE11-4BF7-81CD-73FB638E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FFDAE-E674-4A64-A4E2-AFDBCA99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0055E-28E2-450E-A6E7-A8D4005E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8E7C9-44A7-4CFE-B542-0D309165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6FB423-8E7C-4659-8310-0152D37B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FB263-C314-4FB4-8CC6-619A502D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48072-BA9E-4E0A-88E8-F37A769C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E94E7-C551-4A99-8917-AC721C4A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EAE29-CD45-4DAB-94F0-3819DC22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D43E-E8F9-4616-8085-4339D9B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29A4E-541D-4F03-9151-AE65E37B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345EB-CA4E-460E-B6F7-B9E0708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0573A-0BE5-4855-97C5-A3A10A7A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482A8-8FA3-4E84-9A5A-34F3B70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05A42E-1790-46DE-A0B2-4F335243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8A2CA-4FFE-418C-9F44-528873DA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7011A-36FC-4C9D-BE5E-ABB11C80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A0F2CC-CAE8-4ECD-946D-D0814F19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84FEED-8F94-408F-A660-BF90E67C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E611D-9695-49C7-B990-484F265A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954B-4ECE-4143-9D29-B4A1A17B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BF72D-10D6-4B83-AE1D-58F7794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DAD62-7773-4541-88AE-D9950352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58A58-768E-49F6-B9FA-C5ECFC07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241F2-DB2B-435D-86E9-EDC6F9AB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3C667-D344-4919-884B-5A2AD03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16C57B-9458-46CC-9C6A-9BBBE15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C34EB-80E7-470D-B0C9-5B15BDEF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5C04C-4A6D-4B3F-B656-88B9AC6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F3848-8591-417D-982E-5A548A4E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1504E-DD27-45BA-9FEB-F4331097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6B74-B948-4256-B784-ADCFFFEA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B2FBA-2793-4156-99EE-0ED04DE3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00BF58-AC3D-448D-9329-7F7824F1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E0351-5C99-4D6F-B66B-5430CB59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1886A0-8933-4FD2-B42E-641CD37F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B1014A-92FE-47FB-A05A-5CA1E3EA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E3704-F715-416B-8BDE-EEA23E9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668BC-EDA8-4D8A-9AA7-F84B39F2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40914-054C-4E92-80FD-4E1F8B3A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83A73-5BF0-4F68-88FF-F14A5343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F8300-62CF-424D-9B44-73D28515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0BEC-05CA-4A7C-B613-6AC252F1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8F07D-7E18-4C76-82DA-5CA5E638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386C71-DF68-4A6F-A12D-C76D2181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CFA87-4CD1-4996-8C70-E9BC2FD2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C60095-E55B-4C83-96D9-731E101D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B030FF-0CDF-48C7-9DD8-DDCB972B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CC2DBE-C711-4B27-BB73-FC807198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ACCBB1-1C4F-4654-BB74-0DA9D8F5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4838D1-5D34-477F-BC66-DFAA1B5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7EA2F9-569D-4E38-8368-EBF72B5E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80F91-8C38-4B38-971B-8D51CF0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FCE3-A590-40D6-A2CA-BA16D1FF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646873-AE01-43C1-AA40-546DD963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679B0-4513-4BDC-9D8F-52C568E7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CB5943-D12C-42D7-8E2A-ACA571AD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2A75-9DA1-4D7C-9BEC-C032713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5555D-B3F7-4679-9DB6-F7F09417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E6C09-10B1-4E18-87AD-82C9AEEF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5EB9-7BAA-41EA-8B9E-133634F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332-7465-4E0F-998F-BD2CFCC0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89C6F-8CC0-49FE-B229-73E1C1E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7AC4-8ECB-449F-BA31-855A83A2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0095-D86A-49AA-B665-A7F6FA9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2FE8-A50D-4E2D-908A-C6C04B6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C67F-D943-49C4-BE03-6815552E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7F05-A944-4E03-8BFC-70C6D6D6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64307-FBE7-48CE-82F8-7D357A90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99DD0-CE6B-451E-A480-8D4C77B2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EED1-CA95-4A15-9744-E21CD320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932F0-007D-4E26-8A4B-6BDD5E74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E99-5839-4116-99F3-296AD4EB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2485F-B5A6-4D20-8922-24EAD836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EB7C-050B-4320-BC4B-3AB41EBB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64AC-C9D9-4B40-A45B-E0920BB4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49FD-08F5-417F-93E7-2F3AB235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BC56-836F-46C0-8F17-978B73BD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F711-6C9A-4AD5-A732-582A19D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99109-FE52-4050-B9E1-605E692C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0C21B-2374-4B34-B69A-0959E1C1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44DE-9F2D-49EC-88A1-2682BADC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D252-96B0-4E38-BE23-DE550011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9BE-8FAB-4149-ADFB-3330E0CE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24DF0-9226-4FA5-ACFB-53BD1573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1967-AB3C-4C52-8F0D-EBBBD7A2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F8C7-1546-4208-8DDB-77FADD18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E883D-0301-41A4-AD12-0B38FA7A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9AA6-EB5E-44FA-BCB6-CE037486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6AEC4-9D8B-4507-BB25-B5535BFF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DEC5-0B3F-4564-96BF-8D8E9BA6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5B9AC-9D47-4AD1-B1D6-48C42A96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A0474-8DC9-465E-B2F7-B146CB6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5B050-E50A-4A5C-B58C-580DFB6A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AE0-9DC8-4F90-A683-FBA04C91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C1041-ACAD-4906-A642-CD7A25E3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1F15-C128-4CCA-984D-5563C44C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CF45E-89EF-4367-9208-57596EBF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BEAE3-54AF-4925-924C-69549607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22080-8383-4F34-8F2C-9DDE76A4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67B16-137A-4DFB-B120-C255B008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EC59E-0475-4954-8B1B-1BB83797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4B997-83F2-487B-95AC-7635C179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84F09-46EC-41A2-868E-3C1C248D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25A4-FD35-4592-A550-AD68E86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2BE-202E-4FF7-A90E-51E3B927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D7E9C-CF32-4501-9829-646B6DDD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D23F-3A04-4BD8-819A-FF1B1B68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BE850-F714-4BC8-9B42-1602CF59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F996C-5835-4F4B-845D-F92F6BBF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70664-8172-4B4C-A9AC-0FE10420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1FFE7-B7EB-44FF-8D1A-B34469D4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C192-2A9E-4FB8-A3EA-2F049514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BB14-386D-4847-8C38-DA912A5D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6EE4-0CC2-49EE-85CC-834EF138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08ED7-38E5-4A06-B5C3-BA2DC60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AA3-55FC-434A-B006-B48AC241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64506-33A3-4308-82C7-94C68D6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BDAB7-FA0D-4247-A524-D295A1C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F1CD4-4164-4CA5-9A78-AEAF5F4B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8CD18-9F21-412D-AACC-45C8511B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D5ACB-DB11-4D9E-B07C-EC81C125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14542-8034-4BFF-9CCC-48954AE3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A8C3-0D97-475F-8ECD-3754E762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238FF-F1C6-47F9-A288-73BEF102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1A0B1-AE6D-4FB1-876D-B6A91A72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6C4D-737A-4CD5-BE28-C8306647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988-AC1F-4A0E-A894-737F280E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C9F8F-A200-4557-AC5F-C034679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D77A1-5277-4281-83BA-6ECB145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F66F9-0BF7-460A-93BD-F0854FEB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81DFD-FD1C-4900-BD71-585B9D3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DCCEA-D784-489C-BF19-DF981A30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71964-C44D-4959-8881-699D39FD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BF33A-B091-41E3-8518-99C57CC5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4BCD8-6911-4865-BD8B-009469D7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FEAE9-1BA7-4FE4-A12D-A7EDF27B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CFD12-27B2-4509-86BA-45449012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EBBF-E610-44BD-A16E-B73940F0E5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8BB1-ADAC-422D-B027-6E4EAF5636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A6A3-66B5-445F-B8A1-78AD21DF6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6ACC-142B-4B48-8D6E-F2098A62C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DB40-EE2A-46E1-B1B1-3EE51FD45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2FF9-7039-4B25-9987-703310F8F1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8FC1-434B-4159-AC9D-1526EB2D0C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5976-B9F3-49DA-9651-DA2E24A5E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5A3F-CA36-4EFE-9B12-8E2D950887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AD8-638B-49B0-821C-0ED6E0E91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B6DE-E518-4AB6-B414-52194150FA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1C9B-327D-4B73-936E-C678327562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FDA5-5D23-4898-A33F-E50EABAAC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C291-5A1B-48E2-B76F-211C2F2B92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7260-5556-4027-8D19-6F6051F74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4E30-B57B-4958-BE20-25DF73769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F988-CAE2-4FC9-9768-D54F1E324A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3CEB-7AA1-449E-B16F-59E5A1952C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6D97-5F22-4721-85E1-4CFBBB9BB0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11C5-98AF-4F6D-A045-EA2E84D4E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8051-A394-4441-9607-7466FB3A88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8475-EA05-4A37-BCA4-CBF0D01B93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4A9F-1018-4B60-A41D-325E7A9098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5026-07F5-4408-94AB-C4DC7B64B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34B7-64D3-4C8F-8733-179038D43E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6641-9908-4216-97D1-7464B13307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474-E51A-4EFD-BADA-8912019C32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A41-CAC0-4C3C-92BC-0E87285524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6EC8-FBD9-4611-836F-470D9C2F8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887F-1D2D-467E-9466-4A192A5EA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5AA-4F0E-4D62-ACD2-2693806D31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BAE4-5832-4978-B4E1-BAAC36A12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221E-18E0-4650-A4C2-419D8FAF9E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F5B-D6AC-4003-B15C-985C6944D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2CFC-F173-429D-886D-331E94AC1A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9760-8B34-44B9-9927-F3785CD24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4A0F-F4D9-4BD3-81C9-D469F45BAC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C55-0F6B-42A5-B848-BC81EE5DC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28F3-26E2-4A46-B708-E5FD01473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F424-F9D6-4950-BA9D-55D318A24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195560" y="1989000"/>
            <a:ext cx="6752880" cy="96228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2971800" y="3201840"/>
            <a:ext cx="32004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9633" descr=""/>
          <p:cNvPicPr/>
          <p:nvPr/>
        </p:nvPicPr>
        <p:blipFill>
          <a:blip r:embed="rId1"/>
          <a:stretch/>
        </p:blipFill>
        <p:spPr>
          <a:xfrm>
            <a:off x="262080" y="1276200"/>
            <a:ext cx="8619840" cy="43056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503280" cy="4428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971640" y="2565360"/>
            <a:ext cx="503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组合 68611"/>
          <p:cNvGrpSpPr/>
          <p:nvPr/>
        </p:nvGrpSpPr>
        <p:grpSpPr>
          <a:xfrm>
            <a:off x="233280" y="1341360"/>
            <a:ext cx="8677440" cy="4392720"/>
            <a:chOff x="233280" y="1341360"/>
            <a:chExt cx="8677440" cy="4392720"/>
          </a:xfrm>
        </p:grpSpPr>
        <p:pic>
          <p:nvPicPr>
            <p:cNvPr id="1058" name="图片 68609" descr=""/>
            <p:cNvPicPr/>
            <p:nvPr/>
          </p:nvPicPr>
          <p:blipFill>
            <a:blip r:embed="rId1"/>
            <a:stretch/>
          </p:blipFill>
          <p:spPr>
            <a:xfrm>
              <a:off x="233280" y="1341360"/>
              <a:ext cx="86774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图片 68610" descr=""/>
            <p:cNvPicPr/>
            <p:nvPr/>
          </p:nvPicPr>
          <p:blipFill>
            <a:blip r:embed="rId2"/>
            <a:stretch/>
          </p:blipFill>
          <p:spPr>
            <a:xfrm>
              <a:off x="638280" y="2600280"/>
              <a:ext cx="8181720" cy="313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7596360" y="2565360"/>
            <a:ext cx="502920" cy="442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3564000" y="3213000"/>
            <a:ext cx="5032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7585" descr=""/>
          <p:cNvPicPr/>
          <p:nvPr/>
        </p:nvPicPr>
        <p:blipFill>
          <a:blip r:embed="rId1"/>
          <a:stretch/>
        </p:blipFill>
        <p:spPr>
          <a:xfrm>
            <a:off x="266760" y="819000"/>
            <a:ext cx="8610480" cy="5562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3419640" y="3400560"/>
            <a:ext cx="8650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66561" descr=""/>
          <p:cNvPicPr/>
          <p:nvPr/>
        </p:nvPicPr>
        <p:blipFill>
          <a:blip r:embed="rId1"/>
          <a:stretch/>
        </p:blipFill>
        <p:spPr>
          <a:xfrm>
            <a:off x="243000" y="871560"/>
            <a:ext cx="8658000" cy="5581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8359920" y="836640"/>
            <a:ext cx="502920" cy="4428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841320" y="1469880"/>
            <a:ext cx="503280" cy="4431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1187280" y="2119320"/>
            <a:ext cx="1008360" cy="4428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1908000" y="2766960"/>
            <a:ext cx="100836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65537" descr=""/>
          <p:cNvPicPr/>
          <p:nvPr/>
        </p:nvPicPr>
        <p:blipFill>
          <a:blip r:embed="rId1"/>
          <a:stretch/>
        </p:blipFill>
        <p:spPr>
          <a:xfrm>
            <a:off x="237960" y="762120"/>
            <a:ext cx="8668080" cy="5333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619200" cy="4428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6192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64513" descr=""/>
          <p:cNvPicPr/>
          <p:nvPr/>
        </p:nvPicPr>
        <p:blipFill>
          <a:blip r:embed="rId1"/>
          <a:stretch/>
        </p:blipFill>
        <p:spPr>
          <a:xfrm>
            <a:off x="195120" y="843120"/>
            <a:ext cx="8753760" cy="56102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7524720" y="2651040"/>
            <a:ext cx="503280" cy="4431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187280" y="3284640"/>
            <a:ext cx="503280" cy="4428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2627280" y="3284640"/>
            <a:ext cx="503280" cy="4428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5983200" y="3284640"/>
            <a:ext cx="503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组合 60430"/>
          <p:cNvGrpSpPr/>
          <p:nvPr/>
        </p:nvGrpSpPr>
        <p:grpSpPr>
          <a:xfrm>
            <a:off x="195120" y="1700280"/>
            <a:ext cx="8753760" cy="3367080"/>
            <a:chOff x="195120" y="1700280"/>
            <a:chExt cx="8753760" cy="3367080"/>
          </a:xfrm>
        </p:grpSpPr>
        <p:pic>
          <p:nvPicPr>
            <p:cNvPr id="1025" name="图片 60428" descr=""/>
            <p:cNvPicPr/>
            <p:nvPr/>
          </p:nvPicPr>
          <p:blipFill>
            <a:blip r:embed="rId1"/>
            <a:stretch/>
          </p:blipFill>
          <p:spPr>
            <a:xfrm>
              <a:off x="195120" y="1790640"/>
              <a:ext cx="87537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1" descr=""/>
            <p:cNvPicPr/>
            <p:nvPr/>
          </p:nvPicPr>
          <p:blipFill>
            <a:blip r:embed="rId2"/>
            <a:stretch/>
          </p:blipFill>
          <p:spPr>
            <a:xfrm>
              <a:off x="6372360" y="1700280"/>
              <a:ext cx="2520720" cy="44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3419640" y="3025800"/>
            <a:ext cx="3673440" cy="3157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358920" cy="316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4500720" y="4264200"/>
            <a:ext cx="718920" cy="315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6516720" y="4264200"/>
            <a:ext cx="2448000" cy="315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468360" y="4667400"/>
            <a:ext cx="574560" cy="315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2930400" y="4653000"/>
            <a:ext cx="358920" cy="315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9"/>
          <a:stretch/>
        </p:blipFill>
        <p:spPr>
          <a:xfrm>
            <a:off x="4067280" y="4653000"/>
            <a:ext cx="358560" cy="315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0"/>
          <a:stretch/>
        </p:blipFill>
        <p:spPr>
          <a:xfrm>
            <a:off x="5651640" y="4653000"/>
            <a:ext cx="3585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9410" descr=""/>
          <p:cNvPicPr/>
          <p:nvPr/>
        </p:nvPicPr>
        <p:blipFill>
          <a:blip r:embed="rId1"/>
          <a:stretch/>
        </p:blipFill>
        <p:spPr>
          <a:xfrm>
            <a:off x="237960" y="847800"/>
            <a:ext cx="8668080" cy="5676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826920" y="6237360"/>
            <a:ext cx="2160720" cy="315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6386400" y="3602160"/>
            <a:ext cx="21607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8373" descr=""/>
          <p:cNvPicPr/>
          <p:nvPr/>
        </p:nvPicPr>
        <p:blipFill>
          <a:blip r:embed="rId1"/>
          <a:stretch/>
        </p:blipFill>
        <p:spPr>
          <a:xfrm>
            <a:off x="338040" y="1781280"/>
            <a:ext cx="8467920" cy="32954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720720" cy="316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5508720" y="3025800"/>
            <a:ext cx="720720" cy="315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476360" y="4681440"/>
            <a:ext cx="453564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7352" descr=""/>
          <p:cNvPicPr/>
          <p:nvPr/>
        </p:nvPicPr>
        <p:blipFill>
          <a:blip r:embed="rId1"/>
          <a:stretch/>
        </p:blipFill>
        <p:spPr>
          <a:xfrm>
            <a:off x="176040" y="1276200"/>
            <a:ext cx="8791920" cy="43056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5191200" y="2205000"/>
            <a:ext cx="358560" cy="316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611280" y="5070600"/>
            <a:ext cx="647640" cy="3157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6227640" y="5070600"/>
            <a:ext cx="64800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6324" descr=""/>
          <p:cNvPicPr/>
          <p:nvPr/>
        </p:nvPicPr>
        <p:blipFill>
          <a:blip r:embed="rId1"/>
          <a:stretch/>
        </p:blipFill>
        <p:spPr>
          <a:xfrm>
            <a:off x="185760" y="598320"/>
            <a:ext cx="8772480" cy="6143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7985160" y="3112920"/>
            <a:ext cx="5032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5300" descr=""/>
          <p:cNvPicPr/>
          <p:nvPr/>
        </p:nvPicPr>
        <p:blipFill>
          <a:blip r:embed="rId1"/>
          <a:stretch/>
        </p:blipFill>
        <p:spPr>
          <a:xfrm>
            <a:off x="195120" y="1862280"/>
            <a:ext cx="8753760" cy="31334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985160" y="3141720"/>
            <a:ext cx="5032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4276" descr=""/>
          <p:cNvPicPr/>
          <p:nvPr/>
        </p:nvPicPr>
        <p:blipFill>
          <a:blip r:embed="rId1"/>
          <a:stretch/>
        </p:blipFill>
        <p:spPr>
          <a:xfrm>
            <a:off x="181080" y="1252440"/>
            <a:ext cx="8781840" cy="4353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7956720" y="2565360"/>
            <a:ext cx="5029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52231" descr=""/>
          <p:cNvPicPr/>
          <p:nvPr/>
        </p:nvPicPr>
        <p:blipFill>
          <a:blip r:embed="rId1"/>
          <a:stretch/>
        </p:blipFill>
        <p:spPr>
          <a:xfrm>
            <a:off x="228600" y="701640"/>
            <a:ext cx="8686800" cy="58960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8028000" y="1989000"/>
            <a:ext cx="5032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3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